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E4D69-DB65-4FCA-BF1E-EEC838410D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0EEA-53CF-4847-8832-08CF67CCC3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5575-F9DF-4299-B7C0-D032910F1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3277-222E-4B24-8EF6-AF4BE1E5A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4F810-CD82-44F5-9541-C1FDD19BA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46675-7889-4758-8452-B9C565DB7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57878-0EBF-4D90-B061-375FD967DE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3B02B-4DB8-4E6F-96E2-9AE9A2953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03160-7BB5-45A6-BFCB-C59DF4F86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E94DB-A48F-42B3-973A-5CEDA4FF6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E60B-EB9D-48E5-BE8A-91C340DF63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CA732-2041-47D1-823C-8118D9051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085E3-EFC8-4C7F-9C50-A5738B331B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053E1-D86B-4510-84DF-4D39F6C91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A6519-2BBC-4B4B-851D-49E9B2EDD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481CD-7D0A-4120-A8E1-5E06063DFC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FB44F-06E5-4500-8764-B0C6B2C4B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48867-1979-4460-98A9-C36569272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FF9F-1BDF-4CC2-82E9-2EB4A600ED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73B58-10A9-4073-910C-976153DB5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19897-2547-442F-B634-F63FEDDE8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54B14-D725-4484-8917-BD9AE1C38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1A93D-5CD1-403E-972E-BF0A6EE35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4DE16-1D99-4201-92B1-44772AE379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088BC-3158-4AD8-8655-D474717D3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9EB9C-3471-47CA-998B-C212732DC7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1EF9B-0E20-41EB-9B90-21D47650ED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FD69-491D-4094-9B7A-43B1547F2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FB0-38AF-4491-A0A1-5733AC71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685-92D4-4284-9192-BDEA9A1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DB6-7330-45B3-A475-E9DEFBBB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F86-9C7E-4CEC-8381-F4B75D5A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EA0-81C9-4917-95BC-294F36C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1A9-EBE6-4E53-869C-548733A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E50-F949-43D0-B121-51D8289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CE2-E150-4090-8114-F7E745F3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BF-42C1-41CA-B0D6-FA041DF8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A14-1722-4898-BC12-F19AC73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BEA-EE6A-4B70-BCB8-78DEF6F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D6F-A487-4F67-B765-AA8C5D3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49966-D79B-4DFE-9A95-9822BFCC82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8226360" cy="45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E44C-3C22-46DC-8A77-9FA8B97082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MIC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066680"/>
            <a:ext cx="8229600" cy="548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ized Trusts can avoid becoming taxable entities by electing Real Estate Mortgage Investment Conduit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(“REMIC”)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under I.R.C. § 860D.   To qualif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nerally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 removal, addition, or substitution of ass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owed after date of creation of the REMIC.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Exception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0-90 day period after deal closing to deliver a limited number of loans-in-process (“pre-funding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datory removal of defective loans 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breach of rep. or warra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mitted removal of loa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“in default or default is reasonably foreseeable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eas. Reg. §1.860G-2(f)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GSE’s do both REMIC’s and non-REMIC’s. Some subprime issuers did likewise, if they were REIT’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78213-0A3F-4D5F-9825-B483AF5D6C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REHOUSE L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80880" y="1295280"/>
            <a:ext cx="8229600" cy="543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rovides funding for the period from loan origination until securit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ese transactions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wer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intended to be, and were structured as,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secured financings, not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o protect lender’s rights it the event of default, these contained similar rep’s. warranties, and document delivery requirements as found in sales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0A970-9F45-4D4D-ADD0-E047C6C22D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ASTER SERVI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80880" y="1143000"/>
            <a:ext cx="8229600" cy="552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 separate party from the Servicer- but often an affiliate of Servicer and/or Spons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upervise Servicer(s); enforce buy-back of defective lo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inancial back-up for Servicer’s obligation to advance unpaid PITI on delinquent lo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ssemble monthly data from Servicer(s) and send consolidated reports to Trus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S is paid a fee (perhaps 5 basis points*) that is taken out of the Servicing Fee (If total fee is 50 bps, Servicer gets 45 bps and MS gets 5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*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1% equals 100 basis points; fees based on total principal balance of loans servi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984B9-DC53-47A8-8215-34D2CA19B0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USTO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80880" y="1066680"/>
            <a:ext cx="8229600" cy="524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ves the Trustee as outsourced provider of secure storage for original loan docs such as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ot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Assign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al rationale: Delivery of Notes to agent (Custodian) of purchaser (Trust) constitutes effective delivery for UCC perfection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rchase/Sale Agreements and PSA’s specify exactly what docs must be delivered by Sell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stodial Agreement (in non-GSE deals*) contains Custodian’s duties to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inspect documents; certify compliance; issue exception repor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for non-compli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SE’s use Custodians also; see their Servicing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B3CBF-E113-4160-B5A7-409687FC58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annie/ Freddie (“GSE”) D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09480" y="1143000"/>
            <a:ext cx="82296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o PSA or Custodial Agreemen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aster Trust Agreem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overn multiple securitization. Prospectus Supplements incorporate MTA by refer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S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ling Guide and Servicing Guid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 the contractual terms governing Sellers, Servicers, and Custodian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o Depos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ucture is A to B to C.  Theory: GSE’s are “too big to fail” so “bankruptcy-remote” is not an iss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19320" y="5029200"/>
            <a:ext cx="129528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er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429000" y="4952880"/>
            <a:ext cx="160020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“in its corporate capacit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67280" y="5334120"/>
            <a:ext cx="221004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“as Truste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666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1814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B4E90-9A01-4E46-A6CA-93768B09D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219320" y="1143000"/>
            <a:ext cx="6705360" cy="350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ichard (“Dick”) Shep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aw Office of Richard Shep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.O. Box 1045, Troy, VA 22974-1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Western District of Virgi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lephone: (434) 242-03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x: (434) 473-66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plawoffice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533520"/>
            <a:ext cx="8077320" cy="5288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652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tgage Securit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In particular, Subpri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How it Was (supposed to be)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What Went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Dealing with the “Products”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hard D. Shepherd, Attorney at 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oy, VA (Western District of Virgin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1652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bruary,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23D46-6FE6-4D76-8F00-CD77C82DFF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26520"/>
            <a:ext cx="79261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Securitization: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5800" y="1371600"/>
            <a:ext cx="137160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936880" y="1371600"/>
            <a:ext cx="113004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32440" y="1371600"/>
            <a:ext cx="127188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800" y="20574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loan with Borrower; sells the closed loan; may retain servicing righ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0600" y="2057400"/>
            <a:ext cx="1752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ruptcy Remote” special-purpose subsidiary of sponsor; buys loans in a “true sale” and immediately conveys to the Trust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86600" y="1371600"/>
            <a:ext cx="137160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086600" y="2286000"/>
            <a:ext cx="167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lds legal ownership and has loans serviced for the benefit of Certificate Ho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14600" y="2057400"/>
            <a:ext cx="190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ys closed loans; may add loans from its own origination operations; provides short-term funding until loans are securit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057400" y="1600200"/>
            <a:ext cx="838080" cy="1440"/>
          </a:xfrm>
          <a:prstGeom prst="line">
            <a:avLst/>
          </a:prstGeom>
          <a:ln w="349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4038480" y="1600200"/>
            <a:ext cx="990720" cy="1440"/>
          </a:xfrm>
          <a:prstGeom prst="line">
            <a:avLst/>
          </a:prstGeom>
          <a:ln w="349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6400800" y="1600200"/>
            <a:ext cx="685800" cy="1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C177-AAD8-4B51-A615-01361D5943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26880"/>
            <a:ext cx="79261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ree Key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447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209680"/>
            <a:ext cx="137160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903400" y="2209680"/>
            <a:ext cx="113004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037120" y="2209680"/>
            <a:ext cx="127188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57200" y="2971800"/>
            <a:ext cx="365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MLS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ys all ownership of Notes and Mortgages/D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ains rep’s and warranties; if breached Seller may be required to repur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s what loan docs Seller must deliver when and h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876920" y="2895480"/>
            <a:ext cx="3809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PS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ys loans to Trust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’s and warra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s Servicing rights/ du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Custodial Agre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uties of non-affiliated agent that accepts and holds original mortgage doc’s for Trust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238880" y="2209680"/>
            <a:ext cx="1219320" cy="398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057400" y="2362320"/>
            <a:ext cx="838080" cy="1440"/>
          </a:xfrm>
          <a:prstGeom prst="line">
            <a:avLst/>
          </a:prstGeom>
          <a:ln w="349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4038480" y="2362320"/>
            <a:ext cx="990720" cy="1440"/>
          </a:xfrm>
          <a:prstGeom prst="line">
            <a:avLst/>
          </a:prstGeom>
          <a:ln w="349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6324480" y="2438280"/>
            <a:ext cx="914400" cy="18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33520" y="1219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Mortgage Loan Sale and Purchase  Agreements (MLSP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2362320" y="1905120"/>
            <a:ext cx="14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343400" y="19810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648320" y="1066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Pooling and Servicing Agreement (PS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6477120" y="1981080"/>
            <a:ext cx="14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4191120" y="1828800"/>
            <a:ext cx="1522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7162920" y="1219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ustodial Agre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6934320" y="205740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 flipV="1">
            <a:off x="6934320" y="1823760"/>
            <a:ext cx="30456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609480" y="58672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762120" y="563868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times a Trust Agreement or Indenture will be used in place of a PSA; accomplishes essentially the same purpo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P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38353-482A-4C06-A1F8-AAB16D597D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28600" y="342900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zed losses absorbed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129528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thly cash distributed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he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352680" y="3505320"/>
            <a:ext cx="198144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352680" y="3124080"/>
            <a:ext cx="1981440" cy="368280"/>
          </a:xfrm>
          <a:prstGeom prst="rect">
            <a:avLst/>
          </a:prstGeom>
          <a:solidFill>
            <a:srgbClr val="00cc66">
              <a:alpha val="9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352680" y="3962520"/>
            <a:ext cx="1981440" cy="398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352680" y="2666880"/>
            <a:ext cx="198144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133720" y="-1522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34120" y="1676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352680" y="2209680"/>
            <a:ext cx="1981440" cy="398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352680" y="1752480"/>
            <a:ext cx="1981440" cy="398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352680" y="1295280"/>
            <a:ext cx="1981440" cy="398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enior/Subordination Structure (a/k/a Slicing and Dic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943600" y="129528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d by Investors who want true “mortgage-backed” (a/k/a “asset-backed”) secu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72200" y="320040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al idea: Retain by Sponsor or Underwriter (“skin in the gam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1" idx="1"/>
            <a:endCxn id="105" idx="1"/>
          </p:cNvCxnSpPr>
          <p:nvPr/>
        </p:nvCxnSpPr>
        <p:spPr>
          <a:xfrm flipV="1">
            <a:off x="2133360" y="1510560"/>
            <a:ext cx="1200600" cy="367560"/>
          </a:xfrm>
          <a:prstGeom prst="bentConnector3">
            <a:avLst>
              <a:gd name="adj1" fmla="val 50000"/>
            </a:avLst>
          </a:prstGeom>
          <a:ln w="25560">
            <a:solidFill>
              <a:srgbClr val="ff6600"/>
            </a:solidFill>
            <a:round/>
            <a:tailEnd len="med" type="triangle" w="lg"/>
          </a:ln>
        </p:spPr>
      </p:cxnSp>
      <p:cxnSp>
        <p:nvCxnSpPr>
          <p:cNvPr id="110" name="AutoShape 18"/>
          <p:cNvCxnSpPr>
            <a:stCxn id="95" idx="3"/>
            <a:endCxn id="99" idx="1"/>
          </p:cNvCxnSpPr>
          <p:nvPr/>
        </p:nvCxnSpPr>
        <p:spPr>
          <a:xfrm>
            <a:off x="2209680" y="3931920"/>
            <a:ext cx="1124640" cy="230760"/>
          </a:xfrm>
          <a:prstGeom prst="bentConnector3">
            <a:avLst>
              <a:gd name="adj1" fmla="val 50816"/>
            </a:avLst>
          </a:prstGeom>
          <a:ln w="25560">
            <a:solidFill>
              <a:srgbClr val="ff6600"/>
            </a:solidFill>
            <a:round/>
            <a:tailEnd len="med" type="triangle" w="lg"/>
          </a:ln>
        </p:spPr>
      </p:cxnSp>
      <p:sp>
        <p:nvSpPr>
          <p:cNvPr id="111" name="Line 19"/>
          <p:cNvSpPr/>
          <p:nvPr/>
        </p:nvSpPr>
        <p:spPr>
          <a:xfrm>
            <a:off x="5638680" y="1295280"/>
            <a:ext cx="1800" cy="1828800"/>
          </a:xfrm>
          <a:prstGeom prst="line">
            <a:avLst/>
          </a:prstGeom>
          <a:ln w="316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5867280" y="3124080"/>
            <a:ext cx="1800" cy="1295640"/>
          </a:xfrm>
          <a:prstGeom prst="line">
            <a:avLst/>
          </a:prstGeom>
          <a:ln w="3168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410080" y="31240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5334120" y="12952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5410080" y="44197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457200" y="502920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Credit enhancement techniq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-collateralization ($105 of Loans for every $100 of Certific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holding BB’s or B’s monthly  cash as additional collat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tgage Insurance (on individual Loa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l Insurance (for certain tranch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C84E9-4F2D-4520-9E05-F9D9CF34CF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ateralized Debt Obligation “CD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219320"/>
            <a:ext cx="8229600" cy="4893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nstead of retaining BB’s and B’s, Sponsor sells those to Wall Street al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 securitization trust is created backed by the expected cash flows from these low-tranche securities, not mortgage lo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By similar structure of subordination and credit enhancement, investment-grade ratings were obtained on top tra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DO’s incurred the earliest and worst “write-down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FE43-CD3D-41DF-B6E5-F10BB26B42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Top 5 Reasons Why it All Blew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80880" y="1066680"/>
            <a:ext cx="8229600" cy="550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ain of Blam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(2008) by Paul Muolo and Mathew Padilla, throughout the industry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AutoNum type="arabicPeriod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nsatiable demand for loans by Wall Street and company stockholders led to lax underwri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AutoNum type="arabicPeriod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e-diligence review of loans by Sponsors and Wall Street was done by contractors with poor practices and incentives to approve no matter wha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AutoNum type="arabicPeriod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veryone relied on flawed delinquency projections based on past performance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AutoNum type="arabicPeriod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tings Agency fees were paid by the issuer, so investor protection was sacrificed to gain more busin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nd last but not lea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Tahoma"/>
              <a:buAutoNum type="arabicPeriod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Housing prices tank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32B28-DEBF-48C4-AAE6-6A8E7D6674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92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ue Sa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143000"/>
            <a:ext cx="8229600" cy="474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rue Sale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egal opi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he transfer of loans constitutes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opposed to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cured finan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is is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no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based on accounting rules.  GAAP has its own rules distinguishing between “sale” and “financing” (“On balance sheet” vs. “Off balance sheet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ngs Agencies required these legal opinions. The opinion letters can often be found on ED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LPSA’s and PSA’s unequivocally provide that Seller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ell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all rights in and to the Mortgage Loan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6BED4-54BD-49D8-B2DB-4B3D1CABA6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403200"/>
            <a:ext cx="8231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nkruptcy-remote”/“FDIC-remo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09480" y="1600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480" y="16002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0880" y="1066680"/>
            <a:ext cx="8229600" cy="580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</a:t>
            </a:r>
            <a:r>
              <a:rPr b="0" lang="en-US" sz="2400" spc="-1" strike="noStrike">
                <a:solidFill>
                  <a:srgbClr val="ff33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33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gal opin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t of “true sale” analy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ponsor were to file BK, it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“unlikely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he Trust’s assets could b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solid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the Sponsor’s BK est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ponsor is an FDIC-regulated bank, unlikely that FDIC would consolidate trust’s assets with the failed Sponsor bank’s. 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Some things the opinion-giver look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sale” to Depositor as a legally-existing separate entity from Spon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ositor prohibited by its charter and by-laws from supporting Sponsor financially in any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09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Director on Depositor’s Board with no affiliation to Spons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28600" y="304920"/>
            <a:ext cx="8686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228600" y="304920"/>
            <a:ext cx="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8839080" y="304920"/>
            <a:ext cx="76320" cy="6400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228600" y="6705720"/>
            <a:ext cx="86104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3:49:29Z</dcterms:created>
  <dc:creator>J</dc:creator>
  <dc:description/>
  <dc:language>en-US</dc:language>
  <cp:lastModifiedBy>user1</cp:lastModifiedBy>
  <dcterms:modified xsi:type="dcterms:W3CDTF">2011-02-15T16:29:05Z</dcterms:modified>
  <cp:revision>152</cp:revision>
  <dc:subject/>
  <dc:title>Securitization: Causation Part 1: Going Up</dc:title>
</cp:coreProperties>
</file>